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7BD4-C3B4-45EE-BB97-58C5870F1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2411-E800-446B-908C-6D4B2A9DE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908E-E608-4177-9C91-24AA94D72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B32F-CC31-4C00-98E9-3FF1B17E2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4236-0B36-47E2-B21D-30902A686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1A34-1C09-4022-AFEE-1E4D8BC0F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F08E-3DE5-4E10-BFB4-1BC28A5B4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B0BA-AE3D-4DC6-A0E9-A5906510A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E3F1-D115-41A9-9C7A-BC7D65809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A95F-0305-4B0B-A811-739C20689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5A6-4108-44E8-A174-4AAB3758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D08-9D7F-4F60-81AF-FC63A499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D8D1-0B18-4C08-A62A-852838B2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FF6-770A-4C7F-9E95-A20C36E8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78F5-143F-4C04-B1BD-E8F87079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0A1-C474-498D-A93C-9BC6CCAE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BD0-407F-4EF8-8319-5A1DF799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5A8-6B8C-4A37-928C-B0793477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A2C-7E4D-4178-8A3D-77200783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A87-01E0-43FC-BBE2-7DF2319B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0E6-C054-4F29-AD60-D7E3010E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D44-2868-49A7-B6DF-2196C4F5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5FC2-6EAD-49C0-865E-F50644A6A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La Casa de Mis Sue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"/>
              </a:rPr>
              <a:t>Por: Maggie Par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df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523880" y="3276720"/>
            <a:ext cx="716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905120" y="30481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09680" y="487692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i casa esta localizada en Fiji. Vivo en mi Casa en el ver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971800" y="5335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Mi Ca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Fancy_house_Tintipan"/>
          <p:cNvPicPr/>
          <p:nvPr/>
        </p:nvPicPr>
        <p:blipFill>
          <a:blip r:embed="rId1"/>
          <a:stretch/>
        </p:blipFill>
        <p:spPr>
          <a:xfrm>
            <a:off x="2514600" y="1447920"/>
            <a:ext cx="42102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urlz MT"/>
              </a:rPr>
              <a:t>El Ba</a:t>
            </a:r>
            <a:r>
              <a:rPr b="1" lang="en-US" sz="4400" spc="-1" strike="noStrike">
                <a:solidFill>
                  <a:srgbClr val="000000"/>
                </a:solidFill>
                <a:latin typeface="Curlz MT"/>
                <a:ea typeface="Arial"/>
              </a:rPr>
              <a:t>ñ</a:t>
            </a:r>
            <a:r>
              <a:rPr b="1" lang="en-US" sz="4400" spc="-1" strike="noStrike">
                <a:solidFill>
                  <a:srgbClr val="000000"/>
                </a:solidFill>
                <a:latin typeface="Curlz MT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3360" y="0"/>
            <a:ext cx="1924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63360" y="0"/>
            <a:ext cx="1924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610080" y="2705040"/>
            <a:ext cx="1923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895480" y="487692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El ba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  <a:ea typeface="Arial"/>
              </a:rPr>
              <a:t>ñ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o es pequeña. Tiene un retrete y una banera. Me gusta usar el b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bathroom2400533"/>
          <p:cNvPicPr/>
          <p:nvPr/>
        </p:nvPicPr>
        <p:blipFill>
          <a:blip r:embed="rId2"/>
          <a:stretch/>
        </p:blipFill>
        <p:spPr>
          <a:xfrm>
            <a:off x="3352680" y="1295280"/>
            <a:ext cx="25527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ef"/>
            </a:gs>
            <a:gs pos="100000">
              <a:srgbClr val="99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Mi Cua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7238880"/>
            <a:ext cx="228600" cy="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8080" bIns="28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63360" y="-20520"/>
            <a:ext cx="18957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63360" y="-20520"/>
            <a:ext cx="18957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3624120" y="2705040"/>
            <a:ext cx="1895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3624120" y="2705040"/>
            <a:ext cx="1895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5" descr="beach-inspired-teenage-boys-bedroom"/>
          <p:cNvPicPr/>
          <p:nvPr/>
        </p:nvPicPr>
        <p:blipFill>
          <a:blip r:embed="rId1"/>
          <a:stretch/>
        </p:blipFill>
        <p:spPr>
          <a:xfrm>
            <a:off x="2514600" y="1600200"/>
            <a:ext cx="4267080" cy="2793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6"/>
          <p:cNvSpPr/>
          <p:nvPr/>
        </p:nvSpPr>
        <p:spPr>
          <a:xfrm>
            <a:off x="2895480" y="449568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La cuarto es estupendo y fabuloso. Tiene una cama y una escritorio.Me gusta domir en mi cuartr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gasus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666880" y="5105520"/>
            <a:ext cx="403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362320" y="50292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gasus"/>
              </a:rPr>
              <a:t>La sala es muy magnifico. Tiene un sofa, un mesa, y una terraza. Me gusta hablar con mi familia en la sal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743200" y="5334120"/>
            <a:ext cx="441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9718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PicForNewsletterFijiNov2005NamaleDreamBureCouch"/>
          <p:cNvPicPr/>
          <p:nvPr/>
        </p:nvPicPr>
        <p:blipFill>
          <a:blip r:embed="rId2"/>
          <a:stretch/>
        </p:blipFill>
        <p:spPr>
          <a:xfrm>
            <a:off x="2514600" y="1676520"/>
            <a:ext cx="38098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edd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El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Large-Dining-Room-Area-in-Luxurious-13500000-House-in-Malibu-Dream-Beach-House"/>
          <p:cNvPicPr/>
          <p:nvPr/>
        </p:nvPicPr>
        <p:blipFill>
          <a:blip r:embed="rId1"/>
          <a:stretch/>
        </p:blipFill>
        <p:spPr>
          <a:xfrm>
            <a:off x="2514600" y="1752480"/>
            <a:ext cx="4495680" cy="2832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2971800" y="51814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ubway"/>
              </a:rPr>
              <a:t>El comedor es muy lujoso. Tiene un mesa grande y muchas sillas. Me gusta comer en la comed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8f9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a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666880" y="48006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La cocina es muy bella. Tiene fregadero y un refrigerad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Mi madre cocinar en la coc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Bahamas_Fiji_PL001_LO_RES"/>
          <p:cNvPicPr/>
          <p:nvPr/>
        </p:nvPicPr>
        <p:blipFill>
          <a:blip r:embed="rId1"/>
          <a:stretch/>
        </p:blipFill>
        <p:spPr>
          <a:xfrm>
            <a:off x="2895480" y="1676520"/>
            <a:ext cx="36576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ythagoras"/>
              </a:rPr>
              <a:t>El Por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rosemarybeach-porch"/>
          <p:cNvPicPr/>
          <p:nvPr/>
        </p:nvPicPr>
        <p:blipFill>
          <a:blip r:embed="rId1"/>
          <a:stretch/>
        </p:blipFill>
        <p:spPr>
          <a:xfrm>
            <a:off x="2590920" y="16765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819520" y="47242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666880" y="480060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819520" y="4724280"/>
            <a:ext cx="373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ythagoras"/>
              </a:rPr>
              <a:t>El porche es muy grande y magnifico. Me gusta leer en el porche. Tiene los sillas y muchas me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3048120" y="1447920"/>
            <a:ext cx="3435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LongIsland"/>
              </a:rPr>
              <a:t>El Fin!!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6:55:58Z</dcterms:created>
  <dc:creator>parisimag</dc:creator>
  <dc:description/>
  <dc:language>en-US</dc:language>
  <cp:lastModifiedBy>Parisi Laptop</cp:lastModifiedBy>
  <dcterms:modified xsi:type="dcterms:W3CDTF">2012-05-24T20:54:11Z</dcterms:modified>
  <cp:revision>8</cp:revision>
  <dc:subject/>
  <dc:title>La Casa de Mis Suenos</dc:title>
</cp:coreProperties>
</file>